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CFEA-2D21-42C1-A479-D3F210492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8FB6-F936-47FE-BC85-C2DC74348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42F2-8E8B-4E9C-80C3-AE87E723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30C0-18C8-4D0E-866C-59F167B0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4524-1A04-4739-9689-7AD694AE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3661-5956-4247-A6E4-DDE40EB8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3E8F-EA55-497D-A7CB-0DD2A1BC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D01E-4BDB-456E-821F-D064BA94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3F6B-49B5-47EB-AFC2-4B7B0292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E75D-72C5-43E0-9AB0-004CA8F4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9A96-FBE7-4615-8CAA-C3CCB1BF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A1D3-B322-4DFB-8033-9260516E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E0C3-42CD-4386-A222-D9926C16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53F9-2B2F-4B41-AA6A-0F4EAB3F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4673-4601-48F7-BA7C-CFD54869B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gela Di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ngela D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ngela Die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ngela Diep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ngela Diep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1814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457200" y="588024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e llamo Angela Diep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Yo vivo en New Yor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Tengo catorce añ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No tengo hermanos, pero tengo dos primos en New York, y nuestro apellido somos el mism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Yo soy alta y asiátic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7" descr="Photo on 2011-10-21 at 13.53 #2.jpg"/>
          <p:cNvPicPr/>
          <p:nvPr/>
        </p:nvPicPr>
        <p:blipFill>
          <a:blip r:embed="rId1"/>
          <a:stretch/>
        </p:blipFill>
        <p:spPr>
          <a:xfrm>
            <a:off x="36360" y="438120"/>
            <a:ext cx="1957680" cy="2055960"/>
          </a:xfrm>
          <a:prstGeom prst="rect">
            <a:avLst/>
          </a:prstGeom>
          <a:ln w="0">
            <a:noFill/>
          </a:ln>
        </p:spPr>
      </p:pic>
      <p:sp>
        <p:nvSpPr>
          <p:cNvPr id="84" name="TextBox 62"/>
          <p:cNvSpPr/>
          <p:nvPr/>
        </p:nvSpPr>
        <p:spPr>
          <a:xfrm>
            <a:off x="914400" y="58802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295280" y="5715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ml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886200"/>
            <a:ext cx="43434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Yo soy no pequeño, estupido!  Buenas noches, Tarangela! Tengo que estudio.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Oml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3276720"/>
            <a:ext cx="56386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 días, PJ. Estoy sombreros tienes?          Ang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uy perezosa. Tu sombrero es muy lindo! ¿Cuánt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, Angela. ¿Cómo estas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P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57913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i, tú eres, y tú no lo puedes negar.  Y yo soy no Tarangela! Chao, Omlet. Tengo que abro tarra.               Ang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181480"/>
            <a:ext cx="6248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Qué es la tarea y cuánto tu haces? Yo estoy cansada.  Y recordar Ethan? Él dice él está enfermo.                          To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362320" y="5943600"/>
            <a:ext cx="678168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racías, Angela! Tengo tres sombreros, pero su piel es áspero. Nosotros todos estamos cansados, nuestra tarea es 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nscribir un ensayo y estudiar. Mi mamá es enojado ahora. Por qué tenemos tarea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P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9" descr="fb pic 3.png"/>
          <p:cNvPicPr/>
          <p:nvPr/>
        </p:nvPicPr>
        <p:blipFill>
          <a:blip r:embed="rId2"/>
          <a:stretch/>
        </p:blipFill>
        <p:spPr>
          <a:xfrm>
            <a:off x="2057400" y="2514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6" descr="fb pic 1.png"/>
          <p:cNvPicPr/>
          <p:nvPr/>
        </p:nvPicPr>
        <p:blipFill>
          <a:blip r:embed="rId3"/>
          <a:stretch/>
        </p:blipFill>
        <p:spPr>
          <a:xfrm>
            <a:off x="76320" y="533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7" descr="fb pic 2 copy.png"/>
          <p:cNvPicPr/>
          <p:nvPr/>
        </p:nvPicPr>
        <p:blipFill>
          <a:blip r:embed="rId4"/>
          <a:stretch/>
        </p:blipFill>
        <p:spPr>
          <a:xfrm>
            <a:off x="1371600" y="5410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6" descr="fb pic 2 copy.png"/>
          <p:cNvPicPr/>
          <p:nvPr/>
        </p:nvPicPr>
        <p:blipFill>
          <a:blip r:embed="rId5"/>
          <a:stretch/>
        </p:blipFill>
        <p:spPr>
          <a:xfrm>
            <a:off x="2057400" y="37339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9" descr="fb pic 3.png"/>
          <p:cNvPicPr/>
          <p:nvPr/>
        </p:nvPicPr>
        <p:blipFill>
          <a:blip r:embed="rId6"/>
          <a:stretch/>
        </p:blipFill>
        <p:spPr>
          <a:xfrm>
            <a:off x="228600" y="5486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0" descr="fb pic 4.png"/>
          <p:cNvPicPr/>
          <p:nvPr/>
        </p:nvPicPr>
        <p:blipFill>
          <a:blip r:embed="rId7"/>
          <a:stretch/>
        </p:blipFill>
        <p:spPr>
          <a:xfrm>
            <a:off x="838080" y="5486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2" descr="fb pic 4.png"/>
          <p:cNvPicPr/>
          <p:nvPr/>
        </p:nvPicPr>
        <p:blipFill>
          <a:blip r:embed="rId8"/>
          <a:stretch/>
        </p:blipFill>
        <p:spPr>
          <a:xfrm>
            <a:off x="1981080" y="51055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6" descr="fb pic 1.png"/>
          <p:cNvPicPr/>
          <p:nvPr/>
        </p:nvPicPr>
        <p:blipFill>
          <a:blip r:embed="rId9"/>
          <a:stretch/>
        </p:blipFill>
        <p:spPr>
          <a:xfrm>
            <a:off x="2057400" y="441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6" descr="fb pic 1.png"/>
          <p:cNvPicPr/>
          <p:nvPr/>
        </p:nvPicPr>
        <p:blipFill>
          <a:blip r:embed="rId10"/>
          <a:stretch/>
        </p:blipFill>
        <p:spPr>
          <a:xfrm>
            <a:off x="22096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9" descr="fb pic 3.png"/>
          <p:cNvPicPr/>
          <p:nvPr/>
        </p:nvPicPr>
        <p:blipFill>
          <a:blip r:embed="rId11"/>
          <a:stretch/>
        </p:blipFill>
        <p:spPr>
          <a:xfrm>
            <a:off x="1676520" y="5943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32:14Z</dcterms:created>
  <dc:creator>FriscoISD</dc:creator>
  <dc:description/>
  <dc:language>en-US</dc:language>
  <cp:lastModifiedBy>User</cp:lastModifiedBy>
  <dcterms:modified xsi:type="dcterms:W3CDTF">2013-01-02T14:08:21Z</dcterms:modified>
  <cp:revision>114</cp:revision>
  <dc:subject/>
  <dc:title>Profile</dc:title>
</cp:coreProperties>
</file>